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5A6F-09C2-4174-9D8F-81962391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68E9-58EE-4C91-AD2E-F1CFE9C1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76124-2925-4213-8DF5-2F671D98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0679E-646D-4388-AD12-6014DCF2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DD5F5-438A-4B1E-A794-3A371F38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EB9A4-DAA6-43B5-8C78-88846A04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94FF8-3379-4617-92B7-5DF786B7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675A1-0FD8-4C86-8E36-61A98EB0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31941-E88D-4BE9-A436-EBAE77D8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8846B-94D7-4FDA-A37B-FCCBF7B5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9F9E3-4610-4721-94BB-4299D806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32BE3-61F5-4FCF-A655-440683F4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6A46-ABBA-4012-B56F-588AF68C8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9273E-E78A-4437-81B1-E08B288F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3706A-8351-43CA-8F2F-B9A8CF2F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63796-4070-41B3-B22D-C178D76D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111EC-1B7E-4E75-BF9A-8D089941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8CCB4-6E01-40F9-BF0C-3993ABE6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A9F03-2DB0-4D15-8A67-548FFB24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36263-CF15-4602-94B1-B5027D65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2C46C-40AD-4077-861D-FF5F6560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CF676-602B-467D-8EBE-3E2041FA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7AFAE-7A79-4F2F-86DE-DC6695E9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7C94-483D-4D56-AE37-97494819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F0E0B-2A6D-4F44-9A78-C9D06B78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71A27-90A7-4E9C-95E7-05DE26AA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8C214-DEFA-43AE-B33D-77A95D68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30DD0-E2C8-4F36-8725-6AE2127A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13290-FFE2-41DC-904E-CDE15804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9BF8F-294D-4D95-84E2-7DBCE389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904F4-E038-405F-BC0A-CA323141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19C29-E6B5-458A-8B4C-F2EE1E1E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395A0-E83A-47D2-B40C-9325D502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9919E-7E95-450C-8AD1-A25A4954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2BD2-D4F9-4C88-AB8C-69791D885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0BFFE-9128-49C5-9111-B951B302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40BE1-21A7-474E-A21C-F0CF9C5C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ACFC8-7075-461F-B0B3-A6E05F59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BA550-22F7-4C56-9993-9F2DCC08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18DC7-2BB5-4780-9F18-1CE207E9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86C7C-AA3E-4582-9B7B-087603E4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8D284-7AFF-4AF0-9592-BB9E54B4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F9245-0B80-4BCB-8582-BF8D74E4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FEB9C-D3CA-4C0F-A53D-56F292FE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1806B-C68B-4FD9-9953-D285234F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A909-13A3-46E6-A23C-A13722C4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0587C-B9F6-484B-808F-B75FD187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0E169-E97A-4A8E-8491-87E490E9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86D15-A4ED-466D-83F0-519ECABB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EA230-402B-4FCD-A272-A251E6C5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E0092-021A-442C-A3ED-D004DFD4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3F45A2-E886-4582-8C84-310CAC6A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3E3B03-ED61-453D-95AA-18CD17A1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F0E347-5D46-4371-9EC5-1E8BA658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89E130-9BF5-4146-9FC3-8A7C9907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CE106F-FB3A-4412-A56D-FAE2B92B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0AE2-3A51-4E79-A3D6-70F5D376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4F11A0-A037-42C8-9045-85776894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FFA118-E147-4F1A-8655-FB69E6F7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4276EC-C0A0-432C-B920-69090E80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0DF20D-8350-49E0-99F2-6719A173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54E74A-82A6-48AC-91EA-5D9607D8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C0DC32-0568-43A7-A5AE-55176224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DCB6B0-A447-4FD4-87D3-5FED51ED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B46A6F-E7D9-4295-A628-DA962222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15710A-67C7-47D9-933D-D3B2E7EA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25D1AF-8CCE-4232-979B-AD7FDE1D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EC17-F62E-4905-9A11-E7DC44C0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D203D7-231E-46A0-883F-C5741E31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EA390E-CE11-4551-875F-626A5DA0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15CDDB-D831-4DCD-B031-2AB52975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49F8A7-4E91-44E3-9ADA-7FECD454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84E4E8-3E00-4E22-974C-2B5CD71A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97B403-2E6C-489C-801A-DDC75DFC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C13116-4263-4BD9-BA5D-74F2C51D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202E5A-69B3-44E1-98AB-1D811E61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D1066E-E123-4282-92C7-A75732AF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81EC24-75A7-458C-A274-EE08956A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32B5-AA1D-4C0F-8B47-919D0706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51D264-0FEA-460B-B9CA-DF9C5057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A697AA-52E4-4F29-9D95-F0F32373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2D4F65-2A76-4F2C-9DD5-BD297B93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44C048-9AEA-4173-923A-656BF110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ABB2D2-5DFF-4C8B-80B8-BC0CC460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6E194B-8C87-468E-8094-F23AA2A5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D2A18E-59C3-46FA-AD56-0FB0A32F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DBDF40-D147-4051-8F0E-CAAF7714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9E87BF-0585-448C-B224-A7866ECE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A4136C-A3FD-421F-9937-4222BF3B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BCD6-CE52-4B00-8E3E-FA3F0B9D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6F400D-4BD2-4C9B-B8F4-7059E049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1A952C-6671-46D4-B9F6-BA192CC8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4883DB-A2B8-4589-8CCB-A3C5E1B4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5261B8-A02E-470D-A63C-5E3915CB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577FB7-5872-4589-825C-D7CA6B91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2A5E82-3718-4E5A-B91E-75531693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69FEE3-9CB2-47A1-85C2-36BA0A18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ED16E6-74D8-4542-B27C-DFAA8163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8B786B-4997-4871-833F-B73C5835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BF4563-AB15-451D-A745-8AA0C756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1058-822F-4DE9-948B-0E4935AD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18D5F5-1ACD-4CBD-9B3A-81158A61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86EE26-00D7-4F4E-ADB4-1F1AB942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B41ED6-CBF6-4811-8996-5612BF6C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ECA016-9F83-4EE4-BFB4-5E07D115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744C5C-C799-4277-B063-58D54F99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5A2358-7AD1-46EF-98F9-68468CC6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D1E90A-486C-4A5B-8A68-99B40368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003293-3773-46D5-B5D1-FCACF876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0F3C7B-A86C-4726-A97B-C3B30F7C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03BB7F-06DB-4027-A366-8A3D82A0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728A-5B23-4E83-86CA-2220A475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0706-E75C-4E30-A21F-1BD81033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9A1991-5C4F-48DC-BE26-ED7B7358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E98118-579C-42F9-8D2C-D6A5DC3E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C56281-548B-4A96-ADD4-375C8973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C46633-5D05-4D88-B70C-33089074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6C7B6D-E403-4868-9EE8-C8F50756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08092E-3057-4CF5-80BD-78DD8BEB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A383D7-56E1-4564-966B-7F9E9BBD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846BEB-83CF-41CE-9F91-9B19561A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5A506B-20F0-49BC-B410-7FDD9823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41E002-5C8B-48BD-963B-7A1AD108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620E-6DA2-42A3-8881-F2121D90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CB1FD1-6600-478E-92BE-1AF1679E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C00D50-D5A8-482C-B8CF-2AEB010E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6BD1E1-CD4A-4328-A167-5DB8023F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8793E5-5050-4BC3-B9A3-79880843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9C7A70-F95F-42F5-A28C-86DEEEBB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6D05D4-0BEB-4B05-AF23-ECDDD812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D37DF5-4A3D-4F66-B663-96BD108E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B91F-10C2-4D91-AF50-8997F2C2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04B8-2D8C-456F-8296-294BEE55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6C44-15E5-4EE4-A2D2-2BF68BA5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D8665-07F4-4C2B-8F7C-80BE980B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69ADD-8FFD-4258-AB31-848EFA24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14159-4FBB-4281-B962-585A7225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4DC13-C6DB-40BA-9098-22727478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52F7A-689D-4F12-B684-6661A509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F193-2F2A-4373-896F-59065E53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47A6B-DBBF-4DFF-B41E-E05D8E4A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F02F9-B999-40AA-A1C6-446B3D70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F05E2-78E6-4C80-BA53-271C68DB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F973D-4E4B-4FAD-9A1F-D24CD4BB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9010E-EF55-443E-965C-21B5D322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FC8EF-8870-4950-9F3A-485A993F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A8EB4-93AE-46EF-9EE2-858D26FC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625B4-CA85-4B46-A3CD-6F244177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8CE35-F189-409A-B24B-D561EFE7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3312F-9232-45EE-983A-74DBDEA6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6A03-043A-4D44-BDAF-5229D683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51EA4-562E-44D6-A40C-A0A5D41D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B763C-F181-4400-90DF-EBDF7651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63E47-FD6C-4E4B-963D-2B9A198F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66A70-82AA-4B0D-A92C-ADEFC89F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050ED-319F-4A10-9B1C-E2D3BFAC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4D95D-3802-4658-83E6-F214AA5F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68372-DC47-4D8A-A143-D22C8B0D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1DAED-150E-4B45-8B15-5835B7D2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3A316-00F1-4B08-BC02-E4FE9046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B867F-9EE2-4034-B6D8-C097D416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7545-CD44-4F75-B9CF-81CBC01E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52769-5426-4B3E-A751-3EE9DFA7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BC00A-715D-4415-B394-A3A30B4A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0466A-38AC-4AEC-861B-70A51EA7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F2446-E2FD-4E14-A354-1B037C6E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DB0A9-AC00-4713-9DD4-00B1D7A1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C9A28-2C11-4D5E-A1E7-E1AAAA91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0E018-4FBA-4DA2-B2E0-297A6451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9F8CC-A70D-48F2-ACD3-29C91DAE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74182-D4F1-4931-812F-9D27EBB4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A4DBC-767C-40F7-A117-D49A9890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8E97-0E78-423F-B873-4CBBFAA6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93ACE-8725-4F4F-A3F5-F3ADA1A1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04414-879F-4239-A4E2-9C7C704D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0D4B9-8FC9-4AC2-BA4F-3313F651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D7EE8-56C5-498B-A629-E55A54D3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C754A-4046-4118-A03D-D41B2665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6C3E1-816B-458C-8D98-648939EC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544D9-6191-447E-8FEB-FD1E6CE1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192DE-C8E4-4228-9DFA-38D6B69F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92573-CE6C-4118-BBF8-CF9A554C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B3141-F467-46B2-B77F-12C35933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E1A0-DFF5-47B8-9203-562C57D9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ADDE4-C0DB-4B83-8796-AD14571A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72AC3-5137-436B-87ED-37B853A5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94B7C-2F23-4BFA-A8E3-621A1F04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64D63-230F-4992-8587-27853A15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E1EBD-72EE-4238-BA3B-2EA34B17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0A104-0D53-4738-912C-4002A621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2066C-2E4B-4D43-8E20-256BC795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605F9-0774-421A-BCF2-0ECA5291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77967-78B1-4CB9-83DA-1A7A72B0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8891E-C4B7-4EE5-87A8-A5B02146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3D1B-338E-40AD-AB55-3351FBD8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6B44A-37C7-4C55-9293-0215F091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40E8A-BFAC-4D71-9861-B44A7393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5274F-82D7-4691-BE37-B0BC64C1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FCEAD-6CE3-43D9-8EEA-CC839662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AE727-B250-4458-9738-94B5CA9C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E8B93-985D-41E8-B91A-8A921FFC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EA355-96B6-4FEC-ADC6-C06DD1B4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7AEB2-CDEE-4A94-844C-68AB712D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627B6-01FE-4D1D-A992-FF152F8B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CDD1E-FFDD-4342-97AC-DBDF27F7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F778-4DA6-4C26-B654-2B6FBF19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4029E-BABA-4702-9ED9-405B9205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82B6B-29A9-44B3-AE04-8127D391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ACE7B-6F5E-4607-AFC4-5876DD9F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A084B-6681-457A-8079-504112CA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C0094-718C-4FC9-AD8D-13EEA0E8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DCD3A-4805-4A5C-8ED9-1645CB31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B252A-96F8-4192-A869-7FEAE93C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A6E49-178A-4538-BB40-ED4A639D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7BF1E-617E-4322-A4EF-8D90EE90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39349-47C8-465C-8A0F-59C8995D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4C10-DE09-4843-8B84-7EB44B074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4FDE-2A8C-45B2-B5DC-ED1B85D4C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59F2-6DED-4433-8473-D0CF6D0CC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51DF-E17E-41FF-B4B3-BE1F12682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4637-71F0-4BF9-81E0-10347CAC8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84FA-06A8-484B-8923-7D35BF3FD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55ED-E5A1-47AD-B4B5-62799D987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1B6D-C37B-4FDB-BE21-30F6D9BB5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F23B-0C10-4851-9C97-18A436AA2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9849-72C0-4791-A60E-CA43AFF5A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0955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AA1F-0C88-4764-BBD1-A0960D1EB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751F-6631-44D1-820D-85F91C2A1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89C7-F333-4A5C-93C7-669B216EA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0955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4B0D-41D2-46B2-B81A-800839002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DCE8-ED52-420C-A185-E92FB246F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A4ED-1181-40BE-8F2D-93C812290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0955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7D1E-CE57-456E-B8B3-5AC054B18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28B0-08D7-433B-A3CF-C029A1908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8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8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8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8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8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8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8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8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Algebra 2A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4: Absolute value inequ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6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absolute value inequalities in one variable graph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absolute value inequalities in one variable algebra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Solving graphically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x| &lt;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|x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(x)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x| -6&lt;x&lt;6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2"/>
          <a:stretch/>
        </p:blipFill>
        <p:spPr>
          <a:xfrm>
            <a:off x="3352680" y="1676520"/>
            <a:ext cx="4676760" cy="469080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 flipV="1">
            <a:off x="5638680" y="1980720"/>
            <a:ext cx="2133720" cy="2057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3657240" y="1905120"/>
            <a:ext cx="2057400" cy="2133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505320" y="2743200"/>
            <a:ext cx="4343400" cy="0"/>
          </a:xfrm>
          <a:prstGeom prst="line">
            <a:avLst/>
          </a:prstGeom>
          <a:ln w="507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419720" y="2057400"/>
            <a:ext cx="0" cy="4038480"/>
          </a:xfrm>
          <a:prstGeom prst="line">
            <a:avLst/>
          </a:prstGeom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934320" y="2057400"/>
            <a:ext cx="0" cy="4038480"/>
          </a:xfrm>
          <a:prstGeom prst="line">
            <a:avLst/>
          </a:prstGeom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419720" y="1676520"/>
            <a:ext cx="2514600" cy="4724280"/>
          </a:xfrm>
          <a:prstGeom prst="rect">
            <a:avLst/>
          </a:prstGeom>
          <a:solidFill>
            <a:srgbClr val="ffff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Solving graphically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x-3| &lt;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|x-3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(x)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x|-2&lt;x&lt;8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3352680" y="1676520"/>
            <a:ext cx="4676760" cy="469080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 flipV="1">
            <a:off x="6324480" y="1828800"/>
            <a:ext cx="2210040" cy="22096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 flipV="1">
            <a:off x="4191120" y="1905120"/>
            <a:ext cx="2209680" cy="2133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505320" y="2971800"/>
            <a:ext cx="4343400" cy="0"/>
          </a:xfrm>
          <a:prstGeom prst="line">
            <a:avLst/>
          </a:prstGeom>
          <a:ln w="507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257800" y="1752480"/>
            <a:ext cx="0" cy="4343400"/>
          </a:xfrm>
          <a:prstGeom prst="line">
            <a:avLst/>
          </a:prstGeom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391520" y="1752480"/>
            <a:ext cx="0" cy="4496040"/>
          </a:xfrm>
          <a:prstGeom prst="line">
            <a:avLst/>
          </a:prstGeom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257800" y="1676520"/>
            <a:ext cx="2133720" cy="4800600"/>
          </a:xfrm>
          <a:prstGeom prst="rect">
            <a:avLst/>
          </a:prstGeom>
          <a:solidFill>
            <a:srgbClr val="ffff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Solving graphically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x| &gt;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|x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(x)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x| x&lt;-4 or x&gt;4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2"/>
          <a:stretch/>
        </p:blipFill>
        <p:spPr>
          <a:xfrm>
            <a:off x="3352680" y="1676520"/>
            <a:ext cx="4676760" cy="469080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 flipV="1">
            <a:off x="5638680" y="1980720"/>
            <a:ext cx="2133720" cy="2057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H="1" flipV="1">
            <a:off x="3657240" y="1905120"/>
            <a:ext cx="2057400" cy="2133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505320" y="3200400"/>
            <a:ext cx="4343400" cy="0"/>
          </a:xfrm>
          <a:prstGeom prst="line">
            <a:avLst/>
          </a:prstGeom>
          <a:ln w="507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876920" y="1905120"/>
            <a:ext cx="0" cy="4343400"/>
          </a:xfrm>
          <a:prstGeom prst="line">
            <a:avLst/>
          </a:prstGeom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477120" y="1905120"/>
            <a:ext cx="0" cy="4190760"/>
          </a:xfrm>
          <a:prstGeom prst="line">
            <a:avLst/>
          </a:prstGeom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352680" y="1905120"/>
            <a:ext cx="1524240" cy="4267080"/>
          </a:xfrm>
          <a:prstGeom prst="rect">
            <a:avLst/>
          </a:prstGeom>
          <a:solidFill>
            <a:srgbClr val="ffff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477120" y="1905120"/>
            <a:ext cx="1828800" cy="4190760"/>
          </a:xfrm>
          <a:prstGeom prst="rect">
            <a:avLst/>
          </a:prstGeom>
          <a:solidFill>
            <a:srgbClr val="ffff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Properties of absolute value inequalities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For any positive number p, i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x|&lt;p th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&lt;x&lt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For any positive number, i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x|&gt;p th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&lt;-p or x&gt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Solving algebraically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2-x| &gt;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x&lt;-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x&gt;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&lt;-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&gt;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&gt;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&lt;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Solving algebraically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x-4|&lt;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8&lt;x-4&lt;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&lt;x&lt;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14:21:29Z</dcterms:created>
  <dc:creator>nuhs</dc:creator>
  <dc:description/>
  <dc:language>en-US</dc:language>
  <cp:lastModifiedBy>nuhs</cp:lastModifiedBy>
  <dcterms:modified xsi:type="dcterms:W3CDTF">2007-11-06T20:40:27Z</dcterms:modified>
  <cp:revision>6</cp:revision>
  <dc:subject/>
  <dc:title>Algebra 2A</dc:title>
</cp:coreProperties>
</file>